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D00A-7638-4E2E-B67D-575CD9319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F795-734B-4C26-95DA-8732580D5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7536-91AD-4344-8CDE-BE175DFCC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CE76-A000-4968-8DF4-654F1DCEA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877C-B05C-493B-87B2-1D2AAF01A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8CAD-4CA7-4D72-B773-7C1BAA83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ABE5-55C5-479A-B66A-2FE1489A8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8443-65D5-445E-BDD1-B99272445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DBE8-7932-4002-9E46-7A25814F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FDFA-C2ED-4893-A674-BF954B53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5B3E-ACA2-43A8-AA36-E8ED5AC8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A2E4-FC3B-4BBA-8C27-A4F9F5CB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4B8AA-87F8-4477-9A72-E8DC137299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apes in the Real Wor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: Mrs. Vogl’s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irc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Placeholder 4" descr="Video 9 0 00 00-01.jpg"/>
          <p:cNvPicPr/>
          <p:nvPr/>
        </p:nvPicPr>
        <p:blipFill>
          <a:blip r:embed="rId1"/>
          <a:srcRect l="12502" t="0" r="12502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od Job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C:\Documents and Settings\117voglm\Local Settings\Temporary Internet Files\Content.IE5\F19VE44U\MM900041090[1].gif"/>
          <p:cNvPicPr/>
          <p:nvPr/>
        </p:nvPicPr>
        <p:blipFill>
          <a:blip r:embed="rId1"/>
          <a:stretch/>
        </p:blipFill>
        <p:spPr>
          <a:xfrm>
            <a:off x="2057400" y="2057400"/>
            <a:ext cx="444024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riang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Placeholder 4" descr="math pictures shapes 024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qua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Placeholder 4" descr="math pictures shapes 022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ctang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Placeholder 4" descr="math pictures shapes 023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ctang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Placeholder 5" descr="Video 4 0 00 00-01.jpg"/>
          <p:cNvPicPr/>
          <p:nvPr/>
        </p:nvPicPr>
        <p:blipFill>
          <a:blip r:embed="rId1"/>
          <a:srcRect l="12502" t="0" r="12502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irc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Placeholder 4" descr="Video 5 0 00 00-01.jpg"/>
          <p:cNvPicPr/>
          <p:nvPr/>
        </p:nvPicPr>
        <p:blipFill>
          <a:blip r:embed="rId1"/>
          <a:srcRect l="12502" t="0" r="12502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riang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Placeholder 4" descr="Video 6 0 00 00-01.jpg"/>
          <p:cNvPicPr/>
          <p:nvPr/>
        </p:nvPicPr>
        <p:blipFill>
          <a:blip r:embed="rId1"/>
          <a:srcRect l="12502" t="0" r="12502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qua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Placeholder 4" descr="Video 7 0 00 00-01.jpg"/>
          <p:cNvPicPr/>
          <p:nvPr/>
        </p:nvPicPr>
        <p:blipFill>
          <a:blip r:embed="rId1"/>
          <a:srcRect l="12502" t="0" r="12502" b="0"/>
          <a:stretch/>
        </p:blipFill>
        <p:spPr>
          <a:xfrm>
            <a:off x="1676520" y="612720"/>
            <a:ext cx="6781680" cy="35784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ne end of the square was a little cut off but it is a square in the real world!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6172200" y="990720"/>
            <a:ext cx="2362320" cy="24382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irc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Placeholder 4" descr="Video 8 0 00 00-01.jpg"/>
          <p:cNvPicPr/>
          <p:nvPr/>
        </p:nvPicPr>
        <p:blipFill>
          <a:blip r:embed="rId1"/>
          <a:srcRect l="12502" t="0" r="12502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15:56:32Z</dcterms:created>
  <dc:creator>117voglm</dc:creator>
  <dc:description/>
  <dc:language>en-US</dc:language>
  <cp:lastModifiedBy>shippc</cp:lastModifiedBy>
  <dcterms:modified xsi:type="dcterms:W3CDTF">2010-10-01T17:02:01Z</dcterms:modified>
  <cp:revision>2</cp:revision>
  <dc:subject/>
  <dc:title>Our Class Shape Hunt</dc:title>
</cp:coreProperties>
</file>